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28AD-7EEA-4D0D-95F3-8E960581FB1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B0AF-573B-4157-A54C-90E4DFB80DD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14091-D334-4930-9CEC-CEF387A840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FECAD-A948-412E-8870-8D0EF63F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FDE2F-B7A9-42C8-AF20-F966B15E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9D11D-7A1B-4174-BEE9-2EDC988CCC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8318B-DA56-45E6-A847-367A6BD9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7F0F2-66EA-4747-BCE3-02A03ACC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EE6F5-0662-44EA-8D5F-B1EA5D47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E0BCD-443C-4385-89D9-4DCFF4BA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B5434-9793-458B-9F1C-DD5AAC4A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3EA2F-FBAF-435A-B258-837D3741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F4818-153A-4932-AF07-C9E63E06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6B7DB-AB66-44D5-AE79-08AD1D03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861D9-05F1-4777-9F02-8149A832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43538-4163-4A9B-8808-31059042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FD0B5-5E02-4EE0-8F07-1C01A6C5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6ADBE-B12A-4638-86BF-CBAA2BD0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7F55E-A8D3-4A32-97B1-0679EE56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850B3-9EF2-4AF1-B703-C0927BE0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1DBD3-20B9-4A95-8D7C-AD97F8BB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435F-0C57-4E0F-8C91-90504D25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CDBE7-EDD3-4BE0-99F3-E4F56E48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FB968-BF46-449E-A967-B6557D4F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457F-C2F2-4F68-A6E9-93272FD1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B2F00-5B4D-4802-A6FA-CCC4A86C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87D4-7B6E-438D-A6EC-00EC5ADC1DF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00E8-3B62-4261-8DA8-292D8C69E555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94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95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uncai.com/toolbar/pic2_to/imagedown.asp?imageUrl=http://www.dabaoku.com/sucai/yiliao/kangfu/014an.jpg&amp;publisher=xuncai010@dabaok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46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七章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管理沟通与冲突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707840"/>
            <a:ext cx="88930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沟通的方向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团体或组织在管理结构各层次之间进行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上行和下行两个方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结构中同一层次人员或部门之间的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斜向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不属于同一组织层次单位和人员之间进行的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16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2356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按沟通的渠道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正式的组织程序和组织所规定的正式渠道进行的沟通，是沟通的主要形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 action="ppaction://hlinksldjump"/>
              </a:rPr>
              <a:t>五种典型的沟通网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正式沟通渠道之外进行的信息传递或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1"/>
          <p:cNvGrpSpPr/>
          <p:nvPr/>
        </p:nvGrpSpPr>
        <p:grpSpPr>
          <a:xfrm>
            <a:off x="754200" y="1701720"/>
            <a:ext cx="575640" cy="3671640"/>
            <a:chOff x="754200" y="1701720"/>
            <a:chExt cx="575640" cy="3671640"/>
          </a:xfrm>
        </p:grpSpPr>
        <p:sp>
          <p:nvSpPr>
            <p:cNvPr id="190" name="AutoShape 4"/>
            <p:cNvSpPr/>
            <p:nvPr/>
          </p:nvSpPr>
          <p:spPr>
            <a:xfrm>
              <a:off x="754200" y="170172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1" name="AutoShape 5"/>
            <p:cNvCxnSpPr/>
            <p:nvPr/>
          </p:nvCxnSpPr>
          <p:spPr>
            <a:xfrm>
              <a:off x="1037160" y="222624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2" name="AutoShape 6"/>
            <p:cNvSpPr/>
            <p:nvPr/>
          </p:nvSpPr>
          <p:spPr>
            <a:xfrm>
              <a:off x="763560" y="275076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AutoShape 7"/>
            <p:cNvSpPr/>
            <p:nvPr/>
          </p:nvSpPr>
          <p:spPr>
            <a:xfrm>
              <a:off x="754200" y="380088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AutoShape 8"/>
            <p:cNvSpPr/>
            <p:nvPr/>
          </p:nvSpPr>
          <p:spPr>
            <a:xfrm>
              <a:off x="754200" y="484956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5" name="AutoShape 9"/>
            <p:cNvCxnSpPr/>
            <p:nvPr/>
          </p:nvCxnSpPr>
          <p:spPr>
            <a:xfrm>
              <a:off x="1037160" y="327420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6" name="AutoShape 10"/>
            <p:cNvCxnSpPr/>
            <p:nvPr/>
          </p:nvCxnSpPr>
          <p:spPr>
            <a:xfrm>
              <a:off x="1035360" y="4324320"/>
              <a:ext cx="18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97" name="Text Box 12"/>
          <p:cNvSpPr/>
          <p:nvPr/>
        </p:nvSpPr>
        <p:spPr>
          <a:xfrm>
            <a:off x="395280" y="5732640"/>
            <a:ext cx="14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链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8" name="Group 24"/>
          <p:cNvGrpSpPr/>
          <p:nvPr/>
        </p:nvGrpSpPr>
        <p:grpSpPr>
          <a:xfrm>
            <a:off x="2482920" y="2205000"/>
            <a:ext cx="1728360" cy="2736360"/>
            <a:chOff x="2482920" y="2205000"/>
            <a:chExt cx="1728360" cy="2736360"/>
          </a:xfrm>
        </p:grpSpPr>
        <p:cxnSp>
          <p:nvCxnSpPr>
            <p:cNvPr id="199" name="AutoShape 13"/>
            <p:cNvCxnSpPr/>
            <p:nvPr/>
          </p:nvCxnSpPr>
          <p:spPr>
            <a:xfrm flipH="1">
              <a:off x="285264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0" name="AutoShape 14"/>
            <p:cNvSpPr/>
            <p:nvPr/>
          </p:nvSpPr>
          <p:spPr>
            <a:xfrm>
              <a:off x="3099960" y="3362040"/>
              <a:ext cx="43128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15"/>
            <p:cNvSpPr/>
            <p:nvPr/>
          </p:nvSpPr>
          <p:spPr>
            <a:xfrm>
              <a:off x="377964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>
              <a:off x="254376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2482920" y="22572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3594240" y="22050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05" name="AutoShape 19"/>
            <p:cNvCxnSpPr/>
            <p:nvPr/>
          </p:nvCxnSpPr>
          <p:spPr>
            <a:xfrm>
              <a:off x="2792880" y="2835720"/>
              <a:ext cx="369720" cy="47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6" name="AutoShape 20"/>
            <p:cNvCxnSpPr/>
            <p:nvPr/>
          </p:nvCxnSpPr>
          <p:spPr>
            <a:xfrm>
              <a:off x="347148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7" name="AutoShape 21"/>
            <p:cNvCxnSpPr/>
            <p:nvPr/>
          </p:nvCxnSpPr>
          <p:spPr>
            <a:xfrm flipH="1">
              <a:off x="3471120" y="2782800"/>
              <a:ext cx="329040" cy="52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08" name="Text Box 23"/>
          <p:cNvSpPr/>
          <p:nvPr/>
        </p:nvSpPr>
        <p:spPr>
          <a:xfrm>
            <a:off x="2554200" y="566100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轮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9" name="Group 34"/>
          <p:cNvGrpSpPr/>
          <p:nvPr/>
        </p:nvGrpSpPr>
        <p:grpSpPr>
          <a:xfrm>
            <a:off x="5003640" y="1917720"/>
            <a:ext cx="1223640" cy="3742920"/>
            <a:chOff x="5003640" y="1917720"/>
            <a:chExt cx="1223640" cy="3742920"/>
          </a:xfrm>
        </p:grpSpPr>
        <p:sp>
          <p:nvSpPr>
            <p:cNvPr id="210" name="AutoShape 25"/>
            <p:cNvSpPr/>
            <p:nvPr/>
          </p:nvSpPr>
          <p:spPr>
            <a:xfrm>
              <a:off x="50036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AutoShape 26"/>
            <p:cNvSpPr/>
            <p:nvPr/>
          </p:nvSpPr>
          <p:spPr>
            <a:xfrm>
              <a:off x="57830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7"/>
            <p:cNvSpPr/>
            <p:nvPr/>
          </p:nvSpPr>
          <p:spPr>
            <a:xfrm>
              <a:off x="5393880" y="294840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AutoShape 28"/>
            <p:cNvSpPr/>
            <p:nvPr/>
          </p:nvSpPr>
          <p:spPr>
            <a:xfrm>
              <a:off x="5393880" y="40345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AutoShape 29"/>
            <p:cNvSpPr/>
            <p:nvPr/>
          </p:nvSpPr>
          <p:spPr>
            <a:xfrm>
              <a:off x="5393880" y="5118840"/>
              <a:ext cx="444240" cy="541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15" name="AutoShape 30"/>
            <p:cNvCxnSpPr/>
            <p:nvPr/>
          </p:nvCxnSpPr>
          <p:spPr>
            <a:xfrm>
              <a:off x="5614560" y="457740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6" name="AutoShape 31"/>
            <p:cNvCxnSpPr/>
            <p:nvPr/>
          </p:nvCxnSpPr>
          <p:spPr>
            <a:xfrm>
              <a:off x="5614560" y="349128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AutoShape 32"/>
            <p:cNvCxnSpPr/>
            <p:nvPr/>
          </p:nvCxnSpPr>
          <p:spPr>
            <a:xfrm flipH="1">
              <a:off x="5726520" y="2460600"/>
              <a:ext cx="19080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AutoShape 33"/>
            <p:cNvCxnSpPr/>
            <p:nvPr/>
          </p:nvCxnSpPr>
          <p:spPr>
            <a:xfrm>
              <a:off x="5280480" y="2460600"/>
              <a:ext cx="18972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19" name="Text Box 35"/>
          <p:cNvSpPr/>
          <p:nvPr/>
        </p:nvSpPr>
        <p:spPr>
          <a:xfrm>
            <a:off x="7034040" y="344664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环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7"/>
          <p:cNvGrpSpPr/>
          <p:nvPr/>
        </p:nvGrpSpPr>
        <p:grpSpPr>
          <a:xfrm>
            <a:off x="6875640" y="1560600"/>
            <a:ext cx="1799640" cy="1944720"/>
            <a:chOff x="6875640" y="1560600"/>
            <a:chExt cx="1799640" cy="1944720"/>
          </a:xfrm>
        </p:grpSpPr>
        <p:sp>
          <p:nvSpPr>
            <p:cNvPr id="221" name="AutoShape 36"/>
            <p:cNvSpPr/>
            <p:nvPr/>
          </p:nvSpPr>
          <p:spPr>
            <a:xfrm>
              <a:off x="6875640" y="22471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37"/>
            <p:cNvSpPr/>
            <p:nvPr/>
          </p:nvSpPr>
          <p:spPr>
            <a:xfrm>
              <a:off x="7068240" y="30477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AutoShape 38"/>
            <p:cNvSpPr/>
            <p:nvPr/>
          </p:nvSpPr>
          <p:spPr>
            <a:xfrm>
              <a:off x="8154000" y="30463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AutoShape 39"/>
            <p:cNvSpPr/>
            <p:nvPr/>
          </p:nvSpPr>
          <p:spPr>
            <a:xfrm>
              <a:off x="8282880" y="21891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40"/>
            <p:cNvSpPr/>
            <p:nvPr/>
          </p:nvSpPr>
          <p:spPr>
            <a:xfrm>
              <a:off x="7517520" y="156060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26" name="AutoShape 41"/>
            <p:cNvCxnSpPr/>
            <p:nvPr/>
          </p:nvCxnSpPr>
          <p:spPr>
            <a:xfrm flipH="1">
              <a:off x="7067520" y="1846080"/>
              <a:ext cx="386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7" name="AutoShape 42"/>
            <p:cNvCxnSpPr/>
            <p:nvPr/>
          </p:nvCxnSpPr>
          <p:spPr>
            <a:xfrm>
              <a:off x="7068240" y="2703240"/>
              <a:ext cx="128160" cy="4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8" name="AutoShape 43"/>
            <p:cNvCxnSpPr/>
            <p:nvPr/>
          </p:nvCxnSpPr>
          <p:spPr>
            <a:xfrm>
              <a:off x="7968240" y="1846080"/>
              <a:ext cx="45000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AutoShape 44"/>
            <p:cNvCxnSpPr/>
            <p:nvPr/>
          </p:nvCxnSpPr>
          <p:spPr>
            <a:xfrm flipH="1">
              <a:off x="8388360" y="2646360"/>
              <a:ext cx="9396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Line 46"/>
            <p:cNvSpPr/>
            <p:nvPr/>
          </p:nvSpPr>
          <p:spPr>
            <a:xfrm>
              <a:off x="7453800" y="3389040"/>
              <a:ext cx="70668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1" name="Text Box 48"/>
          <p:cNvSpPr/>
          <p:nvPr/>
        </p:nvSpPr>
        <p:spPr>
          <a:xfrm>
            <a:off x="4786200" y="574848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Arial"/>
                <a:ea typeface="黑体"/>
              </a:rPr>
              <a:t>Y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2" name="Group 74"/>
          <p:cNvGrpSpPr/>
          <p:nvPr/>
        </p:nvGrpSpPr>
        <p:grpSpPr>
          <a:xfrm>
            <a:off x="7020000" y="3989520"/>
            <a:ext cx="1726920" cy="2015640"/>
            <a:chOff x="7020000" y="3989520"/>
            <a:chExt cx="1726920" cy="2015640"/>
          </a:xfrm>
        </p:grpSpPr>
        <p:sp>
          <p:nvSpPr>
            <p:cNvPr id="233" name="AutoShape 50"/>
            <p:cNvSpPr/>
            <p:nvPr/>
          </p:nvSpPr>
          <p:spPr>
            <a:xfrm>
              <a:off x="7020000" y="452016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51"/>
            <p:cNvSpPr/>
            <p:nvPr/>
          </p:nvSpPr>
          <p:spPr>
            <a:xfrm>
              <a:off x="708840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52"/>
            <p:cNvSpPr/>
            <p:nvPr/>
          </p:nvSpPr>
          <p:spPr>
            <a:xfrm>
              <a:off x="834804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53"/>
            <p:cNvSpPr/>
            <p:nvPr/>
          </p:nvSpPr>
          <p:spPr>
            <a:xfrm>
              <a:off x="8331120" y="451008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54"/>
            <p:cNvSpPr/>
            <p:nvPr/>
          </p:nvSpPr>
          <p:spPr>
            <a:xfrm>
              <a:off x="7709760" y="398952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Line 64"/>
            <p:cNvSpPr/>
            <p:nvPr/>
          </p:nvSpPr>
          <p:spPr>
            <a:xfrm>
              <a:off x="7502760" y="5745960"/>
              <a:ext cx="82836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>
              <a:off x="722664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Line 66"/>
            <p:cNvSpPr/>
            <p:nvPr/>
          </p:nvSpPr>
          <p:spPr>
            <a:xfrm>
              <a:off x="853848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7363800" y="4314960"/>
              <a:ext cx="27720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Line 68"/>
            <p:cNvSpPr/>
            <p:nvPr/>
          </p:nvSpPr>
          <p:spPr>
            <a:xfrm>
              <a:off x="8124120" y="4314960"/>
              <a:ext cx="27684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>
              <a:off x="7434000" y="4835520"/>
              <a:ext cx="89712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 flipH="1">
              <a:off x="7502400" y="4835520"/>
              <a:ext cx="82836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Line 71"/>
            <p:cNvSpPr/>
            <p:nvPr/>
          </p:nvSpPr>
          <p:spPr>
            <a:xfrm>
              <a:off x="7434000" y="4835520"/>
              <a:ext cx="89712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Line 72"/>
            <p:cNvSpPr/>
            <p:nvPr/>
          </p:nvSpPr>
          <p:spPr>
            <a:xfrm flipH="1">
              <a:off x="7502760" y="4574160"/>
              <a:ext cx="414000" cy="1171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Line 73"/>
            <p:cNvSpPr/>
            <p:nvPr/>
          </p:nvSpPr>
          <p:spPr>
            <a:xfrm>
              <a:off x="7917120" y="4574160"/>
              <a:ext cx="414000" cy="11070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Text Box 75"/>
          <p:cNvSpPr/>
          <p:nvPr/>
        </p:nvSpPr>
        <p:spPr>
          <a:xfrm>
            <a:off x="6875640" y="60786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全通道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86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正式沟通五种典型的沟通网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8906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沟通的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857240"/>
          <a:ext cx="8569080" cy="4529160"/>
        </p:xfrm>
        <a:graphic>
          <a:graphicData uri="http://schemas.openxmlformats.org/drawingml/2006/table">
            <a:tbl>
              <a:tblPr/>
              <a:tblGrid>
                <a:gridCol w="2016000"/>
                <a:gridCol w="3116160"/>
                <a:gridCol w="3436920"/>
              </a:tblGrid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沟通类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优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缺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效果好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权威性高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约束力强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渠道长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速度慢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层次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过滤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形式灵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速度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正式沟通不足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容易失真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促进小集团形成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42200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管理沟通的影响因素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2358720"/>
            <a:ext cx="785016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语言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过滤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选择性知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传递不适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渠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情绪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六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2880" y="226512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沟通准备充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目的明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对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传递清晰准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26360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4160" y="2314080"/>
            <a:ext cx="824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选择恰当的沟通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确使用语言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非语言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沟通渠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05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积极倾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注、移情、接收、对完整性负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谈话内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背景       用表情表达兴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语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肢体语言      勿急于发表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当提问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复述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澄清    谈话结束后讨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情绪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激动      安排充分交谈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Arial"/>
                <a:ea typeface="宋体"/>
              </a:rPr>
              <a:t>（四）运用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2880" y="190764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个别谈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类型及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型：指示性、汇报性、讨论性、请示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8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作用：监督、参与、悉人、指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激发下级谈话愿望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抓住谈话重要问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达对谈话的兴趣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处理谈话中的停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掌握谈话评论分寸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谈话时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01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第二节   冲  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2125440"/>
            <a:ext cx="8316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冲突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(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27120" indent="-4525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群体内部个体与个体之间、个体与群体之间存在的互不相容、互相排斥的一种矛盾表现形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4" name="Picture 7" descr="http://pic7.nipic.com/20100527/3179695_091758715368_2.jpg"/>
          <p:cNvPicPr/>
          <p:nvPr/>
        </p:nvPicPr>
        <p:blipFill>
          <a:blip r:embed="rId1"/>
          <a:srcRect l="0" t="0" r="0" b="3900"/>
          <a:stretch/>
        </p:blipFill>
        <p:spPr>
          <a:xfrm>
            <a:off x="4932360" y="3925800"/>
            <a:ext cx="361008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539640" y="1785960"/>
            <a:ext cx="7858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陈述管理沟通、冲突的相关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列举管理沟通的原则、类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概括冲突的分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理解管理沟通的目的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解释管理沟通的影响沟通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阐述冲突的基本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有效运用管理沟通的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运用冲突处理策略有效的处理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2050920" y="9936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1280" y="10717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一、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191124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持组织或小组实现工作目标，对组织或小组工作绩效具有积极建设意义的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on-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于认识不一致，组织资源和利益分配不均，导致员工之间发生相互抵触、争执甚至攻击等行为，造成组织效率下降，最终影响组织发展的冲突，又称破坏性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71280" y="1764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db523"/>
                </a:solidFill>
                <a:latin typeface="Verdana"/>
                <a:ea typeface="宋体"/>
              </a:rPr>
              <a:t>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0920" y="1317600"/>
          <a:ext cx="8713800" cy="5040360"/>
        </p:xfrm>
        <a:graphic>
          <a:graphicData uri="http://schemas.openxmlformats.org/drawingml/2006/table">
            <a:tbl>
              <a:tblPr/>
              <a:tblGrid>
                <a:gridCol w="1296720"/>
                <a:gridCol w="3888000"/>
                <a:gridCol w="352908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分  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特  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作  用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建设性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有共同目标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有解决问题意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是为了寻求解决问题的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冲突以问题为中心展开争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双方均愿意了解对方的观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过程中的信息交流不断增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发现组织问题，寻找解决措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促进公平竞争，提高组织效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防止思想僵化，提高决策质量激发创造力，适应外界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4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建设性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不再围绕解决问题展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关注自己观点是否取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相互人身攻击现象时常发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均不愿听取对方的意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意见交换不断减少甚至停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成员心理紧张、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导致人与人之间相互排斥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组织内部的士气涣散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削弱组织战斗力，影响绩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036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冲突的基本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914200" y="2143080"/>
            <a:ext cx="58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潜伏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认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感觉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局阶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808200" indent="-3366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799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04520" y="19094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避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voidanc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漠不关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妥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romis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互相让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顺应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ccommod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弱化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el 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权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作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llabor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寻求双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846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57200" y="22143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谈判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配谈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综合谈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判要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态度积极主动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针对问题，避免攻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灵活应变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寻求双赢的解决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造开放气氛：必要时寻求第三方协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促进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9950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14680" y="19749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护士与护士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护队伍中层次结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工作压力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益冲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认识冲突存在客观性和两面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同理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信任原则处理冲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确认问题的原因或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14320" y="2071800"/>
            <a:ext cx="87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患者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方面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法制和服务意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规范护士的服务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加护理人员的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业务和技能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71720" y="221472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其他医务人员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工作性质不同、期望值不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情绪因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沟通不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建立医护有效沟通、共同合作，营造团队氛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" y="103500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2071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920" y="92088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00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2138400"/>
            <a:ext cx="468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一个人的成功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2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靠智慧、专业水平和经验，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7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取决于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en-US" sz="2600" spc="-1" strike="noStrike">
                <a:solidFill>
                  <a:srgbClr val="03517d"/>
                </a:solidFill>
                <a:latin typeface="Arial"/>
                <a:ea typeface="隶书"/>
              </a:rPr>
              <a:t>——</a:t>
            </a:r>
            <a:r>
              <a:rPr b="1" lang="en-US" sz="2600" spc="-1" strike="noStrike">
                <a:solidFill>
                  <a:srgbClr val="03517d"/>
                </a:solidFill>
                <a:latin typeface="隶书"/>
                <a:ea typeface="隶书"/>
              </a:rPr>
              <a:t> </a:t>
            </a:r>
            <a:r>
              <a:rPr b="1" lang="zh-CN" sz="2600" spc="-1" strike="noStrike">
                <a:solidFill>
                  <a:srgbClr val="03517d"/>
                </a:solidFill>
                <a:latin typeface="隶书"/>
                <a:ea typeface="隶书"/>
              </a:rPr>
              <a:t>美国普林斯顿大学调查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3" descr="康复护理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50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27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6" name="WordArt 13" descr=""/>
          <p:cNvPicPr/>
          <p:nvPr/>
        </p:nvPicPr>
        <p:blipFill>
          <a:blip r:embed="rId1"/>
          <a:stretch/>
        </p:blipFill>
        <p:spPr>
          <a:xfrm>
            <a:off x="2494080" y="2371680"/>
            <a:ext cx="443052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809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3517d"/>
                </a:solidFill>
                <a:latin typeface="黑体"/>
                <a:ea typeface="黑体"/>
              </a:rPr>
              <a:t>第一节  管理沟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42472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管理沟通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(management communication)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人与人之间的信息传递与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沟通双方通过沟通渠道进行的相互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Picture 6" descr="BD07160_"/>
          <p:cNvPicPr/>
          <p:nvPr/>
        </p:nvPicPr>
        <p:blipFill>
          <a:blip r:embed="rId1"/>
          <a:stretch/>
        </p:blipFill>
        <p:spPr>
          <a:xfrm>
            <a:off x="5148360" y="3976560"/>
            <a:ext cx="30477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0"/>
          <p:cNvGrpSpPr/>
          <p:nvPr/>
        </p:nvGrpSpPr>
        <p:grpSpPr>
          <a:xfrm>
            <a:off x="468360" y="4508640"/>
            <a:ext cx="8136000" cy="835920"/>
            <a:chOff x="468360" y="4508640"/>
            <a:chExt cx="8136000" cy="835920"/>
          </a:xfrm>
        </p:grpSpPr>
        <p:sp>
          <p:nvSpPr>
            <p:cNvPr id="161" name="TextBox 3"/>
            <p:cNvSpPr/>
            <p:nvPr/>
          </p:nvSpPr>
          <p:spPr>
            <a:xfrm>
              <a:off x="468360" y="48848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Box 4"/>
            <p:cNvSpPr/>
            <p:nvPr/>
          </p:nvSpPr>
          <p:spPr>
            <a:xfrm>
              <a:off x="282420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Box 5"/>
            <p:cNvSpPr/>
            <p:nvPr/>
          </p:nvSpPr>
          <p:spPr>
            <a:xfrm>
              <a:off x="5035680" y="4884840"/>
              <a:ext cx="12128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接受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TextBox 6"/>
            <p:cNvSpPr/>
            <p:nvPr/>
          </p:nvSpPr>
          <p:spPr>
            <a:xfrm>
              <a:off x="760572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7"/>
            <p:cNvSpPr/>
            <p:nvPr/>
          </p:nvSpPr>
          <p:spPr>
            <a:xfrm>
              <a:off x="1612800" y="4508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编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8"/>
            <p:cNvSpPr/>
            <p:nvPr/>
          </p:nvSpPr>
          <p:spPr>
            <a:xfrm>
              <a:off x="6321600" y="45086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解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9"/>
            <p:cNvSpPr/>
            <p:nvPr/>
          </p:nvSpPr>
          <p:spPr>
            <a:xfrm>
              <a:off x="3822840" y="450864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沟通渠道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68" name="直接箭头连接符 15"/>
            <p:cNvCxnSpPr/>
            <p:nvPr/>
          </p:nvCxnSpPr>
          <p:spPr>
            <a:xfrm>
              <a:off x="1682280" y="5121000"/>
              <a:ext cx="107244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69" name="直接箭头连接符 16"/>
            <p:cNvCxnSpPr/>
            <p:nvPr/>
          </p:nvCxnSpPr>
          <p:spPr>
            <a:xfrm>
              <a:off x="6392520" y="5121000"/>
              <a:ext cx="114228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70" name="直接箭头连接符 28"/>
            <p:cNvCxnSpPr/>
            <p:nvPr/>
          </p:nvCxnSpPr>
          <p:spPr>
            <a:xfrm>
              <a:off x="3822480" y="5121000"/>
              <a:ext cx="1213560" cy="316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</p:grpSp>
      <p:cxnSp>
        <p:nvCxnSpPr>
          <p:cNvPr id="171" name="肘形连接符 31"/>
          <p:cNvCxnSpPr/>
          <p:nvPr/>
        </p:nvCxnSpPr>
        <p:spPr>
          <a:xfrm rot="5400000">
            <a:off x="4573800" y="1769040"/>
            <a:ext cx="3960" cy="7066800"/>
          </a:xfrm>
          <a:prstGeom prst="bentConnector3">
            <a:avLst>
              <a:gd name="adj1" fmla="val 14400000"/>
            </a:avLst>
          </a:prstGeom>
          <a:ln w="19080">
            <a:solidFill>
              <a:srgbClr val="99669b"/>
            </a:solidFill>
            <a:miter/>
            <a:tailEnd len="med" type="arrow" w="med"/>
          </a:ln>
        </p:spPr>
      </p:cxnSp>
      <p:sp>
        <p:nvSpPr>
          <p:cNvPr id="172" name="Rectangle 17"/>
          <p:cNvSpPr/>
          <p:nvPr/>
        </p:nvSpPr>
        <p:spPr>
          <a:xfrm>
            <a:off x="179280" y="1700280"/>
            <a:ext cx="828036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管理沟通是一个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要素：信息源、信息编码、沟通渠道、信息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解码、接受者、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关键环节：信息编码、沟通渠道、信息解码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2348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管理沟通的目的和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2603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收集资料、指导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行为、建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善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递信息，影响知觉、思想、态度，改变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达情感，满足心理需求，确定与对方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936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管理沟通原则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317680"/>
            <a:ext cx="86756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信息明确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沟通的语言和传递方式能被接受者所理解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组织结构完整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内的沟通应按组织结构的完整性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及时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非正式沟通策略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重视交谈与倾听技巧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079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563400" y="1967040"/>
            <a:ext cx="6096240" cy="4495680"/>
          </a:xfrm>
          <a:prstGeom prst="rightArrow">
            <a:avLst>
              <a:gd name="adj1" fmla="val 79306"/>
              <a:gd name="adj2" fmla="val 33587"/>
            </a:avLst>
          </a:prstGeom>
          <a:solidFill>
            <a:srgbClr val="8ac8d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533520" y="2552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媒介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533520" y="3695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方向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39640" y="4848120"/>
            <a:ext cx="4038840" cy="99072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渠道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6378480" y="3551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沟通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239040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按沟通的媒介分类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书面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图表、文字的表达形式进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头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的面谈、会议、电话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语言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手势、动作、姿势、表情、音调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音量、信号、实物、视听设备等媒介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2T10:01:47Z</dcterms:modified>
  <cp:revision>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